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3EC0-16D8-4550-960B-8805026A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1DDE-400F-4B8D-A564-10845E81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784B-51C6-45E5-9285-8B418698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C2D7-6C91-4EC5-9BB3-CB20E5CE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6F89-3E4E-4117-889C-B74BF9CE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7D40-0A33-44DB-8638-3BC286F2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002-57B7-46A1-B00C-38B50D85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557-A7CE-4F14-9BD7-C5E89B01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EF85-9DD3-4C12-9D65-E87D5F2B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7F10-E71B-4CF8-A20A-C27A257D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104A-122D-4A00-95F7-05F6AC9E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1E4D-D6D3-4C25-B62B-FBD7C86C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5D5D-A973-4954-BE99-BA64E658C824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36196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Jerry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Kick off workshop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Agenda</a:t>
            </a:r>
            <a:endParaRPr b="1" lang="en-US" sz="7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28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Lars Bonde, XinJuan Song, Arjen Broe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2-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recondition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setup (handover timeline preferences) per department agreed (detailed handover planning will be discussed in the workshop) (week 6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W estimation finished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lanning for “Work” is determined by SW, HW and S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imavera access for all PPL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Monday 13.02.06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0:00 – 10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Introduction / background (Koh Kheng Wah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0:30 – 11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urrent project setup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Organisation – Set-up BEJ and AAL – PL-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Communication scenarios, mailing lists PL-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1:00 – 12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oject statu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tatus HW/MD/ID – Aalborg – HW-PP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tatus SW – Beijing – SW-PP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3:30 – 17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e process (tailoring) – Thomas Barte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Milestones for HW/SW/S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ynchronization point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fine key activities (must have) for each milestones and nice to have’s (based on MEP 7.02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uesday 14.02.06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9:00 – 17:00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Work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plit in 3 main groups:  HW, SW and S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W: define work packages, feasibility study, CM scenario, contractors, contract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HW: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review stack-up concept, mechanical design, layout, part list, supplier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T: HW performance test, TA, Cradle/fixture, Test spec, R&amp;D suppor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Wednesday 15.02.06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9:00 – 12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ontinue with work started on Tuesday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3:30 – 17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oject planning per department (PL-T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Create planning per department and define dependenci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Input planning in PV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Thursday 16.02.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00 – 9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totype shops (LCM1 &amp; 3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fine which prototype runs take place wher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30-12:0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reate handover planning (PPL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tailed step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13:30 – 16:00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Optimize planning (PL-T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Based on input from work-days and dependenc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Create committed milestone plann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6:00-17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onclusion (PL-T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Identify open action items and plan activ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How far are we from S0/M1?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Benq</cp:lastModifiedBy>
  <dcterms:modified xsi:type="dcterms:W3CDTF">2006-02-06T08:45:27Z</dcterms:modified>
  <cp:revision>110</cp:revision>
  <dc:subject/>
  <dc:title>PowerPoint</dc:title>
</cp:coreProperties>
</file>